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296-E10B-4411-81C5-AE94668B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D5E-6503-4EA8-A461-EFC23CD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E5B-50DA-4762-A0A8-9C039494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76F-D5B0-4072-A921-D3E7B306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0D89-A732-4C06-9F70-D9992CA9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8455-3964-4CF8-B114-1396272A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6EC0-1D34-4699-A64A-BAD6FFF9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28E2-DCA9-4A18-B1E3-9EEF35B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7805-013C-49D4-8A7C-7DEC5A0F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A56B-6E87-4A35-A3B2-33BA80F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23F0-6029-42BC-AD87-FB6E5BB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D53-6CD6-466D-9D69-4E7A6920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8E56-A6AC-4313-A0F1-70ED6BA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AF39-170C-473A-96AD-04C1787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A909-318D-4EAA-ACAF-D7796092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9131-E02B-4D19-ABF5-C6E846C8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4CF0-52EF-4065-A1FF-4AECA07D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4C9-283F-4CB9-A85F-E07BFB80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B65-171C-47FB-A6A2-283269C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BFD-B46A-4B0C-B72C-B421C674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DA9-F743-4420-B6F4-EFB2CB9C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D7C-886A-4B4E-B92D-A060EEF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6A9-3B12-456C-BB19-6EA31A7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683-CCEC-45A5-BFA2-09BDCB5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A719-7FCC-4CC0-8B7A-1783F78571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7AF5-DF6D-4748-86B4-33B672DEE9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640" y="1854360"/>
            <a:ext cx="639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ODCIN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967040"/>
            <a:ext cx="7156440" cy="14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3080" y="30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6280" y="2259000"/>
            <a:ext cx="2655720" cy="539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37000" y="22590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279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4643280"/>
            <a:ext cx="639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zęść prostej n, zawartej między punktami A i B nazywamy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dcinki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dcinek oznaczamy symbolicznie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1280" y="1584360"/>
            <a:ext cx="6429240" cy="430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06640" y="458640"/>
            <a:ext cx="77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skaż na rysunku pary odcinków o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194000"/>
            <a:ext cx="3492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6720" y="4194000"/>
            <a:ext cx="3024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164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0200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7000" y="297972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7000" y="491508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2360" y="2664000"/>
            <a:ext cx="21960" cy="63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12000" y="2619360"/>
            <a:ext cx="22320" cy="63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2000" y="491508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02000" y="49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50036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2000" y="39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529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97360" y="450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7360" y="500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3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27360" y="2664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6640" y="2664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97720" y="2484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7720" y="306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7720" y="396864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4508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31664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3736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16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6640" y="77328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16640" y="4869000"/>
            <a:ext cx="10350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543640"/>
            <a:ext cx="1888920" cy="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308640"/>
            <a:ext cx="2879640" cy="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464200">
            <a:off x="1106280" y="1898640"/>
            <a:ext cx="3509640" cy="351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1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9272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664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4809 -0.07199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-0.07199 L 0.44809 0.01991 E">
                                      <p:cBhvr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0.01991 L 0.44809 0.13148 E">
                                      <p:cBhvr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06640" y="2438280"/>
            <a:ext cx="585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Verdana"/>
              </a:rPr>
              <a:t>Ćwiczenie: Narysuj dowolne trzy odcinki i za pomocą cyrkla porównaj ich długoś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30:50Z</dcterms:modified>
  <cp:revision>16</cp:revision>
  <dc:subject/>
  <dc:title>Slajd 1</dc:title>
</cp:coreProperties>
</file>